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D86C-74A1-41A6-874D-4B3037D8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6020-804E-41B2-B968-274F174D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E50E-7AE3-454F-B391-2AF8023C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350C-2C47-45AC-A579-2A187B42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9CB0-2188-44B5-B573-3AC62FDF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3E88-676A-4F19-9F7F-EF064489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A685-F81B-4E52-BFBF-1857CF9C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2819-0910-4717-8A6D-EE9FFDD5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0741-0DDC-4951-8114-B9CDB9BF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B2FA-7F4F-44EE-9557-E5318FA5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2AC4-9A82-45DE-A8F8-C5B584A5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9E7-24EC-4202-9ECB-796162DC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4C9C-3AE5-4B16-8477-26D0EFD63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mars.ht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6132600" y="5526000"/>
            <a:ext cx="301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52680" y="33526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83808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4869000"/>
            <a:ext cx="2666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/7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Computer #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0"/>
            <a:ext cx="9144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8585fe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&amp;M'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8585fe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3902040" cy="2600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876920" y="4648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Mars"/>
          <p:cNvPicPr/>
          <p:nvPr/>
        </p:nvPicPr>
        <p:blipFill>
          <a:blip r:embed="rId1"/>
          <a:stretch/>
        </p:blipFill>
        <p:spPr>
          <a:xfrm>
            <a:off x="0" y="0"/>
            <a:ext cx="6400800" cy="3124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63560" y="4075200"/>
            <a:ext cx="27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Lemelsons MIT progra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00"/>
                </a:solidFill>
                <a:uFillTx/>
                <a:latin typeface="Arial"/>
              </a:rPr>
              <a:t>M&amp;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January 11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4876920"/>
            <a:ext cx="413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mar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24760" y="5726160"/>
            <a:ext cx="743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M&amp;Ms are a great bite size candies that can be stored any w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They are great for on the 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Invention: M&amp;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It was the first candy to be sent to the troops during world wa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They were invented in the 1940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They were also sent to the troops in the Spanish civil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The partners named the product for the first initials of their last n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They were established in 194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Inventor: Forest E.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 was born on March 21, 1904.In Minneso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 was raised in Canada after his parents div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 entered the university of California at Berkeley and later transfered to Y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 was a highly competitive individual with a gift of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rom his company, Mars Inc., established in franks home in Tacoma, Washington in 1911, came the ever popular snickers, milkyway, three musketeers and Mars Bar.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20:54Z</dcterms:created>
  <dc:creator>install</dc:creator>
  <dc:description/>
  <dc:language>en-US</dc:language>
  <cp:lastModifiedBy>install</cp:lastModifiedBy>
  <dcterms:modified xsi:type="dcterms:W3CDTF">2011-01-14T16:59:56Z</dcterms:modified>
  <cp:revision>11</cp:revision>
  <dc:subject/>
  <dc:title>Slide 1</dc:title>
</cp:coreProperties>
</file>